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9924-DEA4-4007-887D-C603D7F55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CAC3-7B74-4998-9636-F678C3629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9144-34C8-45D5-B1C4-FAE01F5D7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12A9-04D8-4DEB-9903-5AFF63E42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567A-4372-49FF-91A3-47AD557B0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4CB5-CC8A-4C72-ACB1-171B9CAFF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8FB1-5B5B-4B77-AB30-369B4E0DD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9934B-0143-4CCC-8885-A6774551B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F23D-0957-4A07-9E86-61C2E4AF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212D-7218-4B72-B14E-17B386B3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550A-AE41-48FD-8115-1DEE14A2E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C1DF-E9CB-4111-891A-11714E65F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8C64-A923-4BEC-A2E6-61C322A1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8551-FD41-4F5F-AED4-9A11A95E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24AC-1342-4C6E-B58B-D6A2EBEE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2AB1-C867-4D5A-8674-9641CFA3D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0F3F-3581-4F7A-9659-50AD1987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0188-25C2-45AC-BC51-A8EF05C1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4EEA-1902-4EA4-A1D0-F00B1850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280E-0913-4A3B-8F76-AE294E8E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685D-7EDD-4443-BF68-3F671E4C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55C8-69A7-4FCE-996C-28A08A69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53EFA-61D3-4364-A715-BDD759FA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C182-97E7-46AB-86D8-1FA54EC9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4210-32E5-4898-A6C6-6BD664DE5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72C2-88E7-4BB9-8C70-A309260E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309F-B493-4017-B9F8-10B7D358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A140-2355-4E8C-8E9F-62AF49C7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CA79-2E62-4213-ADFD-09CF1A9E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83B5-E570-4DFF-B54D-A3AF69A5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8731-CDBA-486C-8CCF-6D8E3D96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58D-1CD5-48AE-B37E-8C68405B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5292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4068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9072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Bishkek  February 2013.     ISO/IEC 17025:2005      Erzsébet Párká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89C3-CAF1-4C48-9D92-9387C8C8F9FA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600"/>
              <a:ext cx="8078760" cy="224640"/>
            </a:xfrm>
            <a:prstGeom prst="rect">
              <a:avLst/>
            </a:pr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17280"/>
              <a:ext cx="8078760" cy="199440"/>
            </a:xfrm>
            <a:prstGeom prst="rect">
              <a:avLst/>
            </a:prstGeom>
            <a:gradFill rotWithShape="0">
              <a:gsLst>
                <a:gs pos="0">
                  <a:srgbClr val="3f3b19"/>
                </a:gs>
                <a:gs pos="100000">
                  <a:srgbClr val="f0ee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17280"/>
              <a:ext cx="1203120" cy="6840360"/>
            </a:xfrm>
            <a:prstGeom prst="rect">
              <a:avLst/>
            </a:prstGeom>
            <a:gradFill rotWithShape="0">
              <a:gsLst>
                <a:gs pos="0">
                  <a:srgbClr val="c5b46a"/>
                </a:gs>
                <a:gs pos="50000">
                  <a:srgbClr val="e9d47d"/>
                </a:gs>
                <a:gs pos="100000">
                  <a:srgbClr val="c5b4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1160"/>
              <a:chOff x="7848720" y="-360"/>
              <a:chExt cx="1295280" cy="631116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83120"/>
                <a:chOff x="8381880" y="-360"/>
                <a:chExt cx="762120" cy="228312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10560" y="-360"/>
                  <a:ext cx="279360" cy="275400"/>
                  <a:chOff x="8710560" y="-360"/>
                  <a:chExt cx="279360" cy="27540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10560" y="-360"/>
                    <a:ext cx="279360" cy="275400"/>
                    <a:chOff x="8710560" y="-360"/>
                    <a:chExt cx="279360" cy="27540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9440" y="-392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8800" y="91800"/>
                      <a:ext cx="14076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30080" y="14616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3840" y="69840"/>
                    <a:ext cx="4248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4760" y="5724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4240" y="10728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30080" y="20808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8600" y="1832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45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45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49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295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53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33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13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9332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13520"/>
                <a:ext cx="828720" cy="4697280"/>
                <a:chOff x="7848720" y="1613520"/>
                <a:chExt cx="828720" cy="469728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1352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173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25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53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905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94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85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414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13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9340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2128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2120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916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8124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610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29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4084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21360"/>
                  <a:ext cx="29556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9080"/>
                  <a:ext cx="295200" cy="2894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3280"/>
              <a:ext cx="1190520" cy="193500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62880"/>
              <a:ext cx="1219320" cy="19947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7800"/>
              <a:ext cx="1231920" cy="402660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626643"/>
                </a:gs>
                <a:gs pos="50000">
                  <a:srgbClr val="d4dd91"/>
                </a:gs>
                <a:gs pos="100000">
                  <a:srgbClr val="62664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6720"/>
              <a:ext cx="979560" cy="217872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43160"/>
              <a:ext cx="914400" cy="503532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79000"/>
              <a:ext cx="909720" cy="306360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17280"/>
              <a:ext cx="576360" cy="3344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8720"/>
              <a:ext cx="300240" cy="334440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c9c177"/>
                </a:gs>
                <a:gs pos="50000">
                  <a:srgbClr val="9d943f"/>
                </a:gs>
                <a:gs pos="100000">
                  <a:srgbClr val="c9c1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8720"/>
              <a:ext cx="88920" cy="684036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30880"/>
              <a:ext cx="1165320" cy="6174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50000">
                  <a:srgbClr val="c9c177"/>
                </a:gs>
                <a:gs pos="100000">
                  <a:srgbClr val="f0eed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32960" y="3324600"/>
              <a:ext cx="6840360" cy="225360"/>
            </a:xfrm>
            <a:custGeom>
              <a:avLst/>
              <a:gdLst>
                <a:gd name="textAreaLeft" fmla="*/ 666360 w 6840360"/>
                <a:gd name="textAreaRight" fmla="*/ 6174000 w 684036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0eed8"/>
                </a:gs>
                <a:gs pos="100000">
                  <a:srgbClr val="3f3b1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72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Arial"/>
              </a:rPr>
              <a:t>Bishkek  February 2013.     ISO/IEC 17025:2005      Erzsébet Párká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5AC47-5741-4470-BD01-CA7A9923564C}" type="slidenum">
              <a:rPr b="0" lang="hu-H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4772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О работах, проводимых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Arial"/>
              </a:rPr>
              <a:t>в Кыргызской Республике в области обеспечения единства измерений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 Астана, октябрь 2015г.</a:t>
            </a:r>
            <a:endParaRPr b="0" lang="en-US" sz="1200" spc="-1" strike="noStrike">
              <a:solidFill>
                <a:srgbClr val="6667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747684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 работах, проводимых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Кыргызской Республике  в области обеспечения единства измерений </a:t>
            </a:r>
            <a:br>
              <a:rPr sz="1400"/>
            </a:br>
            <a:endParaRPr b="0" lang="en-US" sz="1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7386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оном КР «Об обеспечении единства измерений» от 9 июля 2014 г. ЦСМ при Министерстве экономики  определен как Национальный орган по метрологии, что дает возможность решать задачи национального уров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и из основных направлений деятельности  ЦСМ являются, создание национальной эталонной базы и обеспечение ее функционирования, и проведение метрологического контроля средств измер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 2014 году в ЦСМ проведен метрологический контроль 375 183 ед.  средств измерений в том чис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оверка – 372 485 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747684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 работах, проводимых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Кыргызской Республике  в области обеспечения единства измерений </a:t>
            </a:r>
            <a:br>
              <a:rPr sz="1400"/>
            </a:br>
            <a:endParaRPr b="0" lang="en-US" sz="1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7386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либровка – 1 547 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аттестация испытательного оборудования- 874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тверждение типа – 22 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признание утвержденного типа – 87 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логическая аттестация – 168 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y-KG" sz="2400" spc="-1" strike="noStrike">
                <a:solidFill>
                  <a:srgbClr val="000000"/>
                </a:solidFill>
                <a:latin typeface="Arial"/>
              </a:rPr>
              <a:t>В эталонных лабораториях ЦС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y-KG" sz="2400" spc="-1" strike="noStrike">
                <a:solidFill>
                  <a:srgbClr val="000000"/>
                </a:solidFill>
                <a:latin typeface="Arial"/>
              </a:rPr>
              <a:t>- 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зработаны  и внедрены калибровочные услуги электромеханических, </a:t>
            </a:r>
            <a:r>
              <a:rPr b="0" lang="ky-KG" sz="2400" spc="-1" strike="noStrike">
                <a:solidFill>
                  <a:srgbClr val="000000"/>
                </a:solidFill>
                <a:latin typeface="Arial"/>
              </a:rPr>
              <a:t>аналоговых и цифровых</a:t>
            </a:r>
            <a:r>
              <a:rPr b="1" lang="ky-K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нометров,  объёма гравиметрическим методом, </a:t>
            </a:r>
            <a:r>
              <a:rPr b="0" lang="ky-KG" sz="2400" spc="-1" strike="noStrike">
                <a:solidFill>
                  <a:srgbClr val="000000"/>
                </a:solidFill>
                <a:latin typeface="Arial"/>
              </a:rPr>
              <a:t>мерной посуды и дозаторов пипеточных</a:t>
            </a:r>
            <a:r>
              <a:rPr b="1" lang="ky-KG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Н метров и кондуктометров, электронных и механических аналитических ве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747684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 работах, проводимых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Кыргызской Республике  в области обеспечения единства измерений </a:t>
            </a:r>
            <a:br>
              <a:rPr sz="1400"/>
            </a:br>
            <a:endParaRPr b="0" lang="en-US" sz="1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7386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р</a:t>
            </a:r>
            <a:r>
              <a:rPr b="0" lang="ky-KG" sz="2400" spc="-1" strike="noStrike">
                <a:solidFill>
                  <a:srgbClr val="000000"/>
                </a:solidFill>
                <a:latin typeface="Arial"/>
              </a:rPr>
              <a:t>азработана внутренняя документация, описывающая все требования к проводимым работам  в эталонных лабораториях УНЭ в комплекте Системы менеджмента</a:t>
            </a:r>
            <a:r>
              <a:rPr b="1" lang="ky-KG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y-KG" sz="2400" spc="-1" strike="noStrike">
                <a:solidFill>
                  <a:srgbClr val="000000"/>
                </a:solidFill>
                <a:latin typeface="Arial"/>
              </a:rPr>
              <a:t>качества (Руководство по качеству (РК), Документированные процедуры (ДП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кущем году в эталонных лабораториях проведена предварительная оценка на соответствие основным требованиям ИСО/МЭК 17025 с участием эксперта из Германии в рамках проекта Р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сты ЦСМ в качестве локальных экспертов совместно с экспертами PTB приняли участие в работе по внедрению калибровочных услуг в соответствии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747684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 работах, проводимых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Кыргызской Республике  в области обеспечения единства измерений </a:t>
            </a:r>
            <a:br>
              <a:rPr sz="1400"/>
            </a:br>
            <a:endParaRPr b="0" lang="en-US" sz="1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7386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ждународными методами в Таджикстандарте (Национальный метрологический орган Таджикистана) с целью передачи опыта внедрения калибровочных услуг в соответствии с ИСО/МЭК 1702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ый метрологический орган участвует в проведении работ по линии КОО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циональным метрологическим органом организуются и проводятся  обучения специалистов метрологов на базе Центра подготовки и переквалификации кадров при ЦСМ по утвержденным программ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ример, в соответствии с 104-часовой программой обучения специал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747684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 работах, проводимых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Кыргызской Республике  в области обеспечения единства измерений </a:t>
            </a:r>
            <a:br>
              <a:rPr sz="1400"/>
            </a:br>
            <a:endParaRPr b="0" lang="en-US" sz="1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7386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рологических служб юридических лиц на тему:  “Поверка и калибровка средств измерений” специалист национального органа аккредитации выступил с 3-часовой презентацией: «Аккредитация поверочных и калибровочных лабораторий» с представлением отдельных критериев аккредитации для поверочных и калибровочных лабораторий, установленных в международных стандартах,  таких как ИСО/МЭК 17020 и ИСО/МЭК 17025 (соответственно) и важность и обязательность применения политик и процедур Международного сотрудничества по аккредитации лабораторий (ILAC), национального органа по аккредитации Кыргызстана, относящихся к деятельности калибровочных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152280"/>
            <a:ext cx="747684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О работах, проводимых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в Кыргызской Республике  в области обеспечения единства измерений </a:t>
            </a:r>
            <a:br>
              <a:rPr sz="1400"/>
            </a:br>
            <a:endParaRPr b="0" lang="en-US" sz="1400" spc="-1" strike="noStrike">
              <a:solidFill>
                <a:srgbClr val="66672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7386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ерочных лабораторий, включая политик по  прослеживаемости и неопределенности измерений,  проверочным действиям (сличениям по качеству) и  др., используемых  в процессе подтверждения технической их компетент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601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3565440" y="228600"/>
            <a:ext cx="1024200" cy="731880"/>
          </a:xfrm>
          <a:prstGeom prst="rect">
            <a:avLst/>
          </a:prstGeom>
          <a:ln w="0">
            <a:noFill/>
          </a:ln>
        </p:spPr>
      </p:pic>
      <p:sp>
        <p:nvSpPr>
          <p:cNvPr id="213" name="Номер слайда 3"/>
          <p:cNvSpPr/>
          <p:nvPr/>
        </p:nvSpPr>
        <p:spPr>
          <a:xfrm>
            <a:off x="586728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DC8C-F83C-4594-B113-E84BDFE0534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3" descr=""/>
          <p:cNvPicPr/>
          <p:nvPr/>
        </p:nvPicPr>
        <p:blipFill>
          <a:blip r:embed="rId2"/>
          <a:stretch/>
        </p:blipFill>
        <p:spPr>
          <a:xfrm>
            <a:off x="2970360" y="3809880"/>
            <a:ext cx="2914560" cy="172728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3"/>
          <p:cNvSpPr/>
          <p:nvPr/>
        </p:nvSpPr>
        <p:spPr>
          <a:xfrm>
            <a:off x="1457640" y="2743200"/>
            <a:ext cx="564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rebuchet MS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838080" y="115560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Kyr"/>
              </a:rPr>
              <a:t>К</a:t>
            </a:r>
            <a:r>
              <a:rPr b="1" lang="ky-KG" sz="3200" spc="-1" strike="noStrike">
                <a:solidFill>
                  <a:srgbClr val="000000"/>
                </a:solidFill>
                <a:latin typeface="ArialKyr"/>
              </a:rPr>
              <a:t>өңү</a:t>
            </a:r>
            <a:r>
              <a:rPr b="1" lang="ru-RU" sz="3200" spc="-1" strike="noStrike">
                <a:solidFill>
                  <a:srgbClr val="000000"/>
                </a:solidFill>
                <a:latin typeface="ArialKyr"/>
              </a:rPr>
              <a:t>л  бурганыңыздарга рахма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ижний колонтитул 2"/>
          <p:cNvSpPr/>
          <p:nvPr/>
        </p:nvSpPr>
        <p:spPr>
          <a:xfrm>
            <a:off x="2979720" y="60213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Астана, октябрь 2015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5:55:01Z</dcterms:created>
  <dc:creator>Parkany Mihaly</dc:creator>
  <dc:description/>
  <dc:language>en-US</dc:language>
  <cp:lastModifiedBy>User</cp:lastModifiedBy>
  <dcterms:modified xsi:type="dcterms:W3CDTF">2015-10-27T04:55:39Z</dcterms:modified>
  <cp:revision>346</cp:revision>
  <dc:subject/>
  <dc:title>Курс семинара для специалистов лаборатории по качеству « Международный стандарт ИСО/МЭК 17025 (ISO/IEC 17025): Общие требования к компетентности испытательных и поверочных лабораторий» проведенного Международным Торговым Центром (UNCTAD/WTO) как часть проекта «Продвижение Торговли в Казахстане и  в Кыргызии»  30 марта 2005 года, г.Алматы и г. Бишкек Элизабет Паркань Марта Паполци Инженер химик  Инженер механик Консультанты по ИСО/МЭК 17025:199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